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CEF-562E-402F-8CF2-C22822EAD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338A-9EA8-4A03-989C-884FFAA7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88EE-31E0-4EBE-855D-0E96BDAA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C78F-E18D-40A4-A1CB-1BB4F82B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687-A336-49FB-B30E-DB43E22A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DA0C-B362-464C-8FA7-22B1CCB1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4A9C-3749-415D-977A-C6C2CF06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D68-D410-4200-8CC0-23BF149F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111F-05FD-4602-8268-90AA9995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3B2C-B550-4F3D-A3B2-EC6E338D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D0F2-3113-48FF-B865-8000A4DF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B4C8-7A78-482A-828A-9B374B1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D7AB-9B51-4769-9D77-5FC345ACEE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Product Development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extile Enterprise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aul Co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Product Develop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cept Development and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ept testing means the idea is presented to target customers for their re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ever consumers in particular are not very imaginative so you will need a full description with pic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st against existing or other new products i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Product Develop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rketing Strate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scription of target mar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you plan to position th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ales, market share and profit goals over the next few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Product Develop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siness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ed total sale, link to potential PLC of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stimation of th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eakeve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isk analysis (optimistic, pessimistic, most like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Product Develop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duct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late customer requirements to working prototype (employ QFD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rtual reality technology speeds th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duct customer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pha testing is internal to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a testing with potential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Product Develop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arket Te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mount is related to investment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so time constraints will restrict market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 with customers for no cost then reoffer the same customers product at a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ulation, make an advertisement for product and show to customers with adverts for other similar product and ask them which they like and 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t market, best in a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Product Develop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mercia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(timing), before competitors, alongside competitors of after compet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re (geograph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 Whom (which target marke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, action plan for rolling out the new product into markets (iPod interesting exa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vention or Inno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vention-the discovery of a new device or process, dependant on scientific disco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novation-the process of taking the invention and incorporating it into a new use. It can be managed by developing internal skills and competencies; encouraging the generation of ideas; product lifecycl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no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duct (service) [pull] designed to offer greater value to the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cess [push] designed to improve the manufactur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umpeter defined innovatio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troduction of a new 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roduction of new method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ening of a new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quest of a new source of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rrying out of a new organisation of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Quality Function Deployment (QF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tches identifies the attributes of a product the customer wants and identifies if  it is possible to engineer those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model translates customer requirements at each stage of the product development and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novation Driv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tructure of the indu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firms need to innovate to surv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economic structure of the fi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arger firms are able to invest in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organisational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command and control but more laissez-f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istorica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 firm centred round its core competencies and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dvantage of Inno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ightens entry barriers and enables firm to reap above-normal pro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vides cost advantages which are again reflected in above-normal pro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ete on price or innov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soff Product/Market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e devised generic strategies that emphasised the importance of new products and the discovery of new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rket penetr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growth through increases in market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arket develop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finding new customers for current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roduct develop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creating new products to replace existing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iversificati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development of new products and cultivating new 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Product Develop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a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teracting with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reativity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ify attributes of a product but first identify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ced relationships for example putting pieces of furniture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rrent products and services in new contexts for example dog psychiatris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nd mapping, start with car and develop, combining product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ew Product Development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dea Scre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You can test a product with the wrong audience for example Friends was given a thumbs down with 35+ test aud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ekly idea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w ideas could be given a weighting based on relevance to the success of the produ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9:44:38Z</dcterms:created>
  <dc:creator>Paul Cowell</dc:creator>
  <dc:description/>
  <dc:language>en-US</dc:language>
  <cp:lastModifiedBy>Paul Cowell</cp:lastModifiedBy>
  <dcterms:modified xsi:type="dcterms:W3CDTF">2016-03-17T07:15:38Z</dcterms:modified>
  <cp:revision>81</cp:revision>
  <dc:subject/>
  <dc:title>New Product Development MATS 20450</dc:title>
</cp:coreProperties>
</file>